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49804-2ABB-45F4-ABB7-290417051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9A27C-4E46-4426-B2EE-4ED1F56BA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17BB3-8D02-467C-9B40-664ADA0BD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BB3A2-0727-4D72-ABF3-438EE81F7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56266-A659-4C50-98B9-059F8CA3C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962AA-5712-4C92-8049-E1399C137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D8EFE-6A44-495E-B42C-CA280BAB0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C5989-4F91-49F5-966A-91AF09B71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E8CDE-470E-4E52-9E02-03C1791CE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6BC4A-8564-4E49-B5F2-215C8B56C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F824A-E400-471D-BCD1-6E5A4A80E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CF4E2-1681-4DD3-9A49-7F3589D46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C5612-1252-4834-806C-715793771B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304920" y="5105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4114800" y="0"/>
            <a:ext cx="50292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0" y="533160"/>
            <a:ext cx="41148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333399"/>
                </a:solidFill>
                <a:latin typeface="Arial"/>
              </a:rPr>
              <a:t>إليك يا رب العُلى، إسمع صلاتي</a:t>
            </a:r>
            <a:r>
              <a:rPr b="1" lang="ar-SA" sz="66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333399"/>
                </a:solidFill>
                <a:latin typeface="Arial"/>
              </a:rPr>
              <a:t>واستجب دُعاي</a:t>
            </a:r>
            <a:r>
              <a:rPr b="1" lang="ar-JO" sz="6600" spc="-1" strike="noStrike">
                <a:solidFill>
                  <a:srgbClr val="333399"/>
                </a:solidFill>
                <a:latin typeface="Arial"/>
              </a:rPr>
              <a:t>...</a:t>
            </a:r>
            <a:r>
              <a:rPr b="1" lang="ar-SA" sz="5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44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"/>
            <p:cNvSpPr/>
            <p:nvPr/>
          </p:nvSpPr>
          <p:spPr>
            <a:xfrm>
              <a:off x="0" y="1447920"/>
              <a:ext cx="9144000" cy="10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6" name="" descr=""/>
          <p:cNvPicPr/>
          <p:nvPr/>
        </p:nvPicPr>
        <p:blipFill>
          <a:blip r:embed="rId2">
            <a:lum bright="36000"/>
          </a:blip>
          <a:stretch/>
        </p:blipFill>
        <p:spPr>
          <a:xfrm>
            <a:off x="6934320" y="5181480"/>
            <a:ext cx="1904760" cy="137016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09120" y="4038480"/>
            <a:ext cx="807732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 rtl="1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إني لرافعٌ، عينايَ إلى السماء، ويداي ممدودتان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إليك يا رب العُلى، إسمع صلاتي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واستجب دُعاي</a:t>
            </a:r>
            <a:r>
              <a:rPr b="1" lang="ar-JO" sz="36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-685800" y="46483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>
            <a:lum bright="36000"/>
          </a:blip>
          <a:stretch/>
        </p:blipFill>
        <p:spPr>
          <a:xfrm>
            <a:off x="7086600" y="4572000"/>
            <a:ext cx="1905120" cy="137016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0" y="5029200"/>
            <a:ext cx="78487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إليك يا رب العُلى، إسمع صلاتي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واستجب دُعاي</a:t>
            </a:r>
            <a:r>
              <a:rPr b="1" lang="ar-JO" sz="4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52280" y="228600"/>
            <a:ext cx="8458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إني لرافعٌ، عينايَ إلى السماء، ويداي ممدودتا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580920" y="2743200"/>
            <a:ext cx="21337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فجئت اليك قائلاً يا رب الحياة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50532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3429000" y="457200"/>
            <a:ext cx="2286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في وقت ضيقي بحثت عن النجاة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4876920"/>
            <a:ext cx="2361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اسمع صلاتي واستجب </a:t>
            </a:r>
            <a:r>
              <a:rPr b="1" lang="ar-JO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دعاي</a:t>
            </a:r>
            <a:r>
              <a:rPr b="1" lang="ar-JO" sz="36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5753160" y="0"/>
            <a:ext cx="3390840" cy="68580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>
            <a:lum bright="36000"/>
          </a:blip>
          <a:stretch/>
        </p:blipFill>
        <p:spPr>
          <a:xfrm>
            <a:off x="7086600" y="4572000"/>
            <a:ext cx="1905120" cy="137016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0" y="5029200"/>
            <a:ext cx="78487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إليك يا رب العُلى، إسمع صلاتي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واستجب دُعاي</a:t>
            </a:r>
            <a:r>
              <a:rPr b="1" lang="ar-JO" sz="4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52280" y="228600"/>
            <a:ext cx="8458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إني لرافعٌ، عينايَ إلى السماء، ويداي ممدودتا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5029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آتـي اليك في هيكل قدسـك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2666880"/>
            <a:ext cx="2922480" cy="41911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5791320" y="0"/>
            <a:ext cx="3352680" cy="36576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 rot="21145200">
            <a:off x="3173400" y="4815000"/>
            <a:ext cx="5790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Tahoma"/>
              </a:rPr>
              <a:t>اسمع صلاتي</a:t>
            </a:r>
            <a:r>
              <a:rPr b="1" lang="ar-JO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ar-SA" sz="4400" spc="-1" strike="noStrike">
                <a:solidFill>
                  <a:srgbClr val="000000"/>
                </a:solidFill>
                <a:latin typeface="Tahoma"/>
              </a:rPr>
              <a:t>واستجب دعاي</a:t>
            </a:r>
            <a:r>
              <a:rPr b="1" lang="ar-JO" sz="44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2280" y="1523880"/>
            <a:ext cx="548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ahoma"/>
              </a:rPr>
              <a:t>وأجثو خاشعـاً أمـام عرش مجـدك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…</a:t>
            </a:r>
            <a:r>
              <a:rPr b="0" lang="ar-SA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58792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2362320" y="594324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 rtl="1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Arial"/>
              </a:rPr>
              <a:t>واستج</a:t>
            </a:r>
            <a:r>
              <a:rPr b="1" lang="ar-JO" sz="4800" spc="-1" strike="noStrike">
                <a:solidFill>
                  <a:srgbClr val="000000"/>
                </a:solidFill>
                <a:latin typeface="Arial"/>
              </a:rPr>
              <a:t>ـ</a:t>
            </a:r>
            <a:r>
              <a:rPr b="1" lang="ar-SA" sz="4800" spc="-1" strike="noStrike">
                <a:solidFill>
                  <a:srgbClr val="000000"/>
                </a:solidFill>
                <a:latin typeface="Arial"/>
              </a:rPr>
              <a:t>ب دُع</a:t>
            </a:r>
            <a:r>
              <a:rPr b="1" lang="ar-JO" sz="4800" spc="-1" strike="noStrike">
                <a:solidFill>
                  <a:srgbClr val="000000"/>
                </a:solidFill>
                <a:latin typeface="Arial"/>
              </a:rPr>
              <a:t>ـــ</a:t>
            </a:r>
            <a:r>
              <a:rPr b="1" lang="ar-SA" sz="4800" spc="-1" strike="noStrike">
                <a:solidFill>
                  <a:srgbClr val="000000"/>
                </a:solidFill>
                <a:latin typeface="Arial"/>
              </a:rPr>
              <a:t>اي</a:t>
            </a:r>
            <a:r>
              <a:rPr b="1" lang="ar-JO" sz="4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>
            <a:lum bright="36000"/>
          </a:blip>
          <a:stretch/>
        </p:blipFill>
        <p:spPr>
          <a:xfrm>
            <a:off x="0" y="5486400"/>
            <a:ext cx="2743200" cy="13716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6477120" y="0"/>
            <a:ext cx="266688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ahoma"/>
              </a:rPr>
              <a:t>إني لرافعٌ، عينايَ إلى السماء، ويداي ممدودتان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0520" y="4876920"/>
            <a:ext cx="7684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9900"/>
                </a:solidFill>
                <a:latin typeface="Tahoma"/>
              </a:rPr>
              <a:t>إليك يا رب العُلى، إسمع صلاتي</a:t>
            </a:r>
            <a:r>
              <a:rPr b="0" lang="ar-SA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523880" y="5866920"/>
            <a:ext cx="7467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 rtl="1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ff9900"/>
                </a:solidFill>
                <a:latin typeface="Arial"/>
              </a:rPr>
              <a:t>اسمع صلاتي واستجب دعاي</a:t>
            </a:r>
            <a:r>
              <a:rPr b="0" lang="ar-JO" sz="5400" spc="-1" strike="noStrike">
                <a:solidFill>
                  <a:srgbClr val="ff9900"/>
                </a:solidFill>
                <a:latin typeface="Arial"/>
              </a:rPr>
              <a:t> ..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66800" y="0"/>
            <a:ext cx="9397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9900"/>
                </a:solidFill>
                <a:latin typeface="Tahoma"/>
              </a:rPr>
              <a:t>ربـي يسوعـي يا رب صخرتـي </a:t>
            </a:r>
            <a:r>
              <a:rPr b="1" lang="en-US" sz="4800" spc="-1" strike="noStrike">
                <a:solidFill>
                  <a:srgbClr val="ff9900"/>
                </a:solidFill>
                <a:latin typeface="Tahoma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400" y="3200400"/>
            <a:ext cx="10110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9900"/>
                </a:solidFill>
                <a:latin typeface="Tahoma"/>
              </a:rPr>
              <a:t>عزّي و ترسـي عليك اتكل قلبـي </a:t>
            </a:r>
            <a:r>
              <a:rPr b="1" lang="en-US" sz="4800" spc="-1" strike="noStrike">
                <a:solidFill>
                  <a:srgbClr val="ff9900"/>
                </a:solidFill>
                <a:latin typeface="Tahoma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82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"/>
            <p:cNvSpPr/>
            <p:nvPr/>
          </p:nvSpPr>
          <p:spPr>
            <a:xfrm>
              <a:off x="0" y="1447920"/>
              <a:ext cx="9144000" cy="10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4" name="" descr=""/>
          <p:cNvPicPr/>
          <p:nvPr/>
        </p:nvPicPr>
        <p:blipFill>
          <a:blip r:embed="rId2">
            <a:lum bright="36000"/>
          </a:blip>
          <a:stretch/>
        </p:blipFill>
        <p:spPr>
          <a:xfrm>
            <a:off x="6781680" y="5072040"/>
            <a:ext cx="2057400" cy="14796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-360" y="4571640"/>
            <a:ext cx="65530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 rtl="1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99cc00"/>
                </a:solidFill>
                <a:latin typeface="Arial"/>
              </a:rPr>
              <a:t>إليك يا رب العُلى، إسمع صلاتي</a:t>
            </a:r>
            <a:r>
              <a:rPr b="1" lang="ar-SA" sz="4400" spc="-1" strike="noStrike">
                <a:solidFill>
                  <a:srgbClr val="99cc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99cc00"/>
                </a:solidFill>
                <a:latin typeface="Arial"/>
              </a:rPr>
              <a:t>واستجب دُعاي</a:t>
            </a:r>
            <a:r>
              <a:rPr b="1" lang="ar-JO" sz="4400" spc="-1" strike="noStrike">
                <a:solidFill>
                  <a:srgbClr val="99cc00"/>
                </a:solidFill>
                <a:latin typeface="Arial"/>
              </a:rPr>
              <a:t> ..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-1966680" y="0"/>
            <a:ext cx="12747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99cc00"/>
                </a:solidFill>
                <a:latin typeface="Tahoma"/>
              </a:rPr>
              <a:t>إني لرافعٌ، عينايَ إلى السماء، ويداي ممدودتان</a:t>
            </a:r>
            <a:r>
              <a:rPr b="1" lang="ar-SA" sz="4400" spc="-1" strike="noStrike">
                <a:solidFill>
                  <a:srgbClr val="99cc00"/>
                </a:solidFill>
                <a:latin typeface="Tahoma"/>
              </a:rPr>
              <a:t>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5T19:58:48Z</dcterms:created>
  <dc:creator>AMMCSKS</dc:creator>
  <dc:description/>
  <dc:language>en-US</dc:language>
  <cp:lastModifiedBy>user</cp:lastModifiedBy>
  <dcterms:modified xsi:type="dcterms:W3CDTF">2006-04-10T21:04:42Z</dcterms:modified>
  <cp:revision>33</cp:revision>
  <dc:subject/>
  <dc:title>Slide 1</dc:title>
</cp:coreProperties>
</file>